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type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F333E-36F0-432F-B75A-324B9ED8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38FE7-ACF1-4FF7-B440-4F935F2D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106FF-873D-479E-B84C-3D7C8095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AE9E1-7FB4-43E5-832F-15497333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00A0-914B-473D-86A7-4F5A31B9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4337-4718-4300-BEB9-DF45A404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6426-148B-4BDC-A8D7-FBBC58B6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8B40-4D32-4530-8F96-30D4F9DB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4D0E-8468-4390-8FBE-A28B8CAE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99CC-2FE1-4317-BEE9-0165ADB1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D384-BE91-47A0-8887-440E0E25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2154-C3AE-460C-8F1B-9C10EAD1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86AA-A127-47F5-BD67-58549204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BB72-F7F8-410D-9CBA-FC4E4BBB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B635-F35D-48DC-AAD1-1D8A4944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BAEF-C384-4719-88EF-E6171282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782A-FDE0-4816-95E9-841589AC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3522-6FD8-4F35-AE47-BFB3F527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77807-0A4F-41DC-8B42-386512B2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B8B2A-B88C-4058-B35A-AE1CF912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F3BF7-74C2-4CF4-9F3E-0F18D2C0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4B47A-BC3A-4BCD-A8EC-671F952D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F9481-4E5D-4297-99AB-5E80BCF0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D457-33FA-4FB2-AD80-E0AC71DC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65C6-E3AF-4B00-AC7D-721D5D1AC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8326-BEC4-474C-A049-25E9076D5B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gener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enere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an example of a polyalphabetic cipher where the substitution pattern v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, a plaintext “e” may be replaced by a ciphertext “p” one time and a ciphertext “w”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genere cipher does this using a Vigener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DF16-026A-4DBF-8B3D-AAD63CBF85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enere Ciph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981160" cy="20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ble lists the ke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 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and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 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419640" y="1409760"/>
            <a:ext cx="5505120" cy="5277240"/>
            <a:chOff x="3419640" y="1409760"/>
            <a:chExt cx="5505120" cy="5277240"/>
          </a:xfrm>
        </p:grpSpPr>
        <p:sp>
          <p:nvSpPr>
            <p:cNvPr id="117" name=""/>
            <p:cNvSpPr/>
            <p:nvPr/>
          </p:nvSpPr>
          <p:spPr>
            <a:xfrm>
              <a:off x="3419640" y="1409760"/>
              <a:ext cx="5505120" cy="51814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09720" y="1482480"/>
              <a:ext cx="5209920" cy="52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a b c d e f g h i j k l m n o p q r s t u v w x y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a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a b c d e f g h i j k l m n o p q r s t u v w x y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b c d e f g h i j k l m n o p q r s t u v w x y z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c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c d e f g h i j k l m n o p q r s t u v w x y z a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d e f g h i j k l m n o p q r s t u v w x y z a b 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e f g h i j k l m n o p q r s t u v w x y z a b c 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f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f g h i j k l m n o p q r s t u v w x y z a b c d 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g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g h i j k l m n o p q r s t u v w x y z a b c d e 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h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h i j k l m n o p q r s t u v w x y z a b c d e f 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i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i j k l m n o p q r s t u v w x y z a b c d e f g 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j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j k l m n o p q r s t u v w x y z a b c d e f g h 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k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k l m n o p q r s t u v w x y z a b c d e f g h i j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l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l m n o p q r s t u v w x y z a b c d e f g h i j 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m n o p q r s t u v w x y z a b c d e f g h i j k 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n o p q r s t u v w x y z a b c d e f g h i j k l m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o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o p q r s t u v w x y z a b c d e f g h i j k l m 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p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p q r s t u v w x y z a b c d e f g h i j k l m n 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q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q r s t u v w x y z a b c d e f g h i j k l m n o 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r s t u v w x y z a b c d e f g h i j k l m n o p q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s t u v w x y z a b c d e f g h i j k l m n o p q 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t u v w x y z a b c d e f g h i j k l m n o p q r 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u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u v w x y z a b c d e f g h i j k l m n o p q r s 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v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v w x y z a b c d e f g h i j k l m n o p q r s t 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w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w x y z a b c d e f g h i j k l m n o p q r s t u v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x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x y z a b c d e f g h i j k l m n o p q r s t u v 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y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y z a b c d e f g h i j k l m n o p q r s t u v w x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z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z a b c d e f g h i j k l m n o p q r s t u v w x 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88D52-158C-4718-9BDA-51119AA983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615680"/>
            <a:ext cx="534672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eyword is selected and it is repeatedly written above the plai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using the keyword “hold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047960" y="3406680"/>
            <a:ext cx="272160" cy="278280"/>
            <a:chOff x="1047960" y="3406680"/>
            <a:chExt cx="272160" cy="278280"/>
          </a:xfrm>
        </p:grpSpPr>
        <p:sp>
          <p:nvSpPr>
            <p:cNvPr id="122" name=""/>
            <p:cNvSpPr/>
            <p:nvPr/>
          </p:nvSpPr>
          <p:spPr>
            <a:xfrm>
              <a:off x="105228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79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14720" y="3406680"/>
            <a:ext cx="272160" cy="278280"/>
            <a:chOff x="1314720" y="3406680"/>
            <a:chExt cx="272160" cy="278280"/>
          </a:xfrm>
        </p:grpSpPr>
        <p:sp>
          <p:nvSpPr>
            <p:cNvPr id="125" name=""/>
            <p:cNvSpPr/>
            <p:nvPr/>
          </p:nvSpPr>
          <p:spPr>
            <a:xfrm>
              <a:off x="13190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147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581480" y="3406680"/>
            <a:ext cx="272160" cy="278280"/>
            <a:chOff x="1581480" y="3406680"/>
            <a:chExt cx="272160" cy="278280"/>
          </a:xfrm>
        </p:grpSpPr>
        <p:sp>
          <p:nvSpPr>
            <p:cNvPr id="128" name=""/>
            <p:cNvSpPr/>
            <p:nvPr/>
          </p:nvSpPr>
          <p:spPr>
            <a:xfrm>
              <a:off x="15858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814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848240" y="3406680"/>
            <a:ext cx="272160" cy="278280"/>
            <a:chOff x="1848240" y="3406680"/>
            <a:chExt cx="272160" cy="278280"/>
          </a:xfrm>
        </p:grpSpPr>
        <p:sp>
          <p:nvSpPr>
            <p:cNvPr id="131" name=""/>
            <p:cNvSpPr/>
            <p:nvPr/>
          </p:nvSpPr>
          <p:spPr>
            <a:xfrm>
              <a:off x="18525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482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105280" y="3406680"/>
            <a:ext cx="272160" cy="278280"/>
            <a:chOff x="2105280" y="3406680"/>
            <a:chExt cx="272160" cy="278280"/>
          </a:xfrm>
        </p:grpSpPr>
        <p:sp>
          <p:nvSpPr>
            <p:cNvPr id="134" name=""/>
            <p:cNvSpPr/>
            <p:nvPr/>
          </p:nvSpPr>
          <p:spPr>
            <a:xfrm>
              <a:off x="21096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052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372040" y="3406680"/>
            <a:ext cx="272160" cy="278280"/>
            <a:chOff x="2372040" y="3406680"/>
            <a:chExt cx="272160" cy="278280"/>
          </a:xfrm>
        </p:grpSpPr>
        <p:sp>
          <p:nvSpPr>
            <p:cNvPr id="137" name=""/>
            <p:cNvSpPr/>
            <p:nvPr/>
          </p:nvSpPr>
          <p:spPr>
            <a:xfrm>
              <a:off x="23763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720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638800" y="3406680"/>
            <a:ext cx="272160" cy="278280"/>
            <a:chOff x="2638800" y="3406680"/>
            <a:chExt cx="272160" cy="278280"/>
          </a:xfrm>
        </p:grpSpPr>
        <p:sp>
          <p:nvSpPr>
            <p:cNvPr id="140" name=""/>
            <p:cNvSpPr/>
            <p:nvPr/>
          </p:nvSpPr>
          <p:spPr>
            <a:xfrm>
              <a:off x="264312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880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905560" y="3406680"/>
            <a:ext cx="272160" cy="278280"/>
            <a:chOff x="2905560" y="3406680"/>
            <a:chExt cx="272160" cy="278280"/>
          </a:xfrm>
        </p:grpSpPr>
        <p:sp>
          <p:nvSpPr>
            <p:cNvPr id="143" name=""/>
            <p:cNvSpPr/>
            <p:nvPr/>
          </p:nvSpPr>
          <p:spPr>
            <a:xfrm>
              <a:off x="290988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055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172320" y="3406680"/>
            <a:ext cx="272160" cy="278280"/>
            <a:chOff x="3172320" y="3406680"/>
            <a:chExt cx="272160" cy="278280"/>
          </a:xfrm>
        </p:grpSpPr>
        <p:sp>
          <p:nvSpPr>
            <p:cNvPr id="146" name=""/>
            <p:cNvSpPr/>
            <p:nvPr/>
          </p:nvSpPr>
          <p:spPr>
            <a:xfrm>
              <a:off x="317664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723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438720" y="3406680"/>
            <a:ext cx="272160" cy="278280"/>
            <a:chOff x="3438720" y="3406680"/>
            <a:chExt cx="272160" cy="278280"/>
          </a:xfrm>
        </p:grpSpPr>
        <p:sp>
          <p:nvSpPr>
            <p:cNvPr id="149" name=""/>
            <p:cNvSpPr/>
            <p:nvPr/>
          </p:nvSpPr>
          <p:spPr>
            <a:xfrm>
              <a:off x="34430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87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705480" y="3406680"/>
            <a:ext cx="272160" cy="278280"/>
            <a:chOff x="3705480" y="3406680"/>
            <a:chExt cx="272160" cy="278280"/>
          </a:xfrm>
        </p:grpSpPr>
        <p:sp>
          <p:nvSpPr>
            <p:cNvPr id="152" name=""/>
            <p:cNvSpPr/>
            <p:nvPr/>
          </p:nvSpPr>
          <p:spPr>
            <a:xfrm>
              <a:off x="37098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54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972240" y="3406680"/>
            <a:ext cx="272160" cy="278280"/>
            <a:chOff x="3972240" y="3406680"/>
            <a:chExt cx="272160" cy="278280"/>
          </a:xfrm>
        </p:grpSpPr>
        <p:sp>
          <p:nvSpPr>
            <p:cNvPr id="155" name=""/>
            <p:cNvSpPr/>
            <p:nvPr/>
          </p:nvSpPr>
          <p:spPr>
            <a:xfrm>
              <a:off x="39765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722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239000" y="3406680"/>
            <a:ext cx="272160" cy="278280"/>
            <a:chOff x="4239000" y="3406680"/>
            <a:chExt cx="272160" cy="278280"/>
          </a:xfrm>
        </p:grpSpPr>
        <p:sp>
          <p:nvSpPr>
            <p:cNvPr id="158" name=""/>
            <p:cNvSpPr/>
            <p:nvPr/>
          </p:nvSpPr>
          <p:spPr>
            <a:xfrm>
              <a:off x="424332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3900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05760" y="3406680"/>
            <a:ext cx="272160" cy="278280"/>
            <a:chOff x="4505760" y="3406680"/>
            <a:chExt cx="272160" cy="278280"/>
          </a:xfrm>
        </p:grpSpPr>
        <p:sp>
          <p:nvSpPr>
            <p:cNvPr id="161" name=""/>
            <p:cNvSpPr/>
            <p:nvPr/>
          </p:nvSpPr>
          <p:spPr>
            <a:xfrm>
              <a:off x="451008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57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72520" y="3406680"/>
            <a:ext cx="272160" cy="278280"/>
            <a:chOff x="4772520" y="3406680"/>
            <a:chExt cx="272160" cy="278280"/>
          </a:xfrm>
        </p:grpSpPr>
        <p:sp>
          <p:nvSpPr>
            <p:cNvPr id="164" name=""/>
            <p:cNvSpPr/>
            <p:nvPr/>
          </p:nvSpPr>
          <p:spPr>
            <a:xfrm>
              <a:off x="477684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725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038920" y="3406680"/>
            <a:ext cx="272160" cy="278280"/>
            <a:chOff x="5038920" y="3406680"/>
            <a:chExt cx="272160" cy="278280"/>
          </a:xfrm>
        </p:grpSpPr>
        <p:sp>
          <p:nvSpPr>
            <p:cNvPr id="167" name=""/>
            <p:cNvSpPr/>
            <p:nvPr/>
          </p:nvSpPr>
          <p:spPr>
            <a:xfrm>
              <a:off x="50432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389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305680" y="3406680"/>
            <a:ext cx="272160" cy="278280"/>
            <a:chOff x="5305680" y="3406680"/>
            <a:chExt cx="272160" cy="278280"/>
          </a:xfrm>
        </p:grpSpPr>
        <p:sp>
          <p:nvSpPr>
            <p:cNvPr id="170" name=""/>
            <p:cNvSpPr/>
            <p:nvPr/>
          </p:nvSpPr>
          <p:spPr>
            <a:xfrm>
              <a:off x="53100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056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572440" y="3406680"/>
            <a:ext cx="272160" cy="278280"/>
            <a:chOff x="5572440" y="3406680"/>
            <a:chExt cx="272160" cy="278280"/>
          </a:xfrm>
        </p:grpSpPr>
        <p:sp>
          <p:nvSpPr>
            <p:cNvPr id="173" name=""/>
            <p:cNvSpPr/>
            <p:nvPr/>
          </p:nvSpPr>
          <p:spPr>
            <a:xfrm>
              <a:off x="55767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24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98440" y="33894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gik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37440" y="3618000"/>
            <a:ext cx="5872320" cy="368280"/>
            <a:chOff x="-37440" y="3618000"/>
            <a:chExt cx="5872320" cy="368280"/>
          </a:xfrm>
        </p:grpSpPr>
        <p:sp>
          <p:nvSpPr>
            <p:cNvPr id="177" name=""/>
            <p:cNvSpPr/>
            <p:nvPr/>
          </p:nvSpPr>
          <p:spPr>
            <a:xfrm>
              <a:off x="-37440" y="361800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Magik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048320" y="3683160"/>
              <a:ext cx="4786560" cy="277560"/>
              <a:chOff x="1048320" y="3683160"/>
              <a:chExt cx="4786560" cy="27756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2076840" y="3683160"/>
                <a:ext cx="363600" cy="277560"/>
                <a:chOff x="2076840" y="3683160"/>
                <a:chExt cx="363600" cy="2775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90520" y="3683160"/>
                  <a:ext cx="276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076840" y="3684240"/>
                  <a:ext cx="36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362320" y="3683160"/>
                <a:ext cx="272160" cy="277560"/>
                <a:chOff x="2362320" y="3683160"/>
                <a:chExt cx="272160" cy="2775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37528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36232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629080" y="3683160"/>
                <a:ext cx="272160" cy="277560"/>
                <a:chOff x="2629080" y="3683160"/>
                <a:chExt cx="272160" cy="2775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64204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2908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895840" y="3683160"/>
                <a:ext cx="272160" cy="277560"/>
                <a:chOff x="2895840" y="3683160"/>
                <a:chExt cx="272160" cy="2775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90880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89584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162600" y="3683160"/>
                <a:ext cx="2672280" cy="277560"/>
                <a:chOff x="3162600" y="3683160"/>
                <a:chExt cx="2672280" cy="27756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3162600" y="3683160"/>
                  <a:ext cx="272160" cy="277560"/>
                  <a:chOff x="3162600" y="3683160"/>
                  <a:chExt cx="272160" cy="2775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317556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16260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3695760" y="3683160"/>
                  <a:ext cx="272160" cy="277560"/>
                  <a:chOff x="3695760" y="3683160"/>
                  <a:chExt cx="272160" cy="2775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70872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6957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3429360" y="3683160"/>
                  <a:ext cx="272160" cy="277560"/>
                  <a:chOff x="3429360" y="3683160"/>
                  <a:chExt cx="272160" cy="2775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344196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4293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4229280" y="3683160"/>
                  <a:ext cx="272160" cy="277560"/>
                  <a:chOff x="4229280" y="3683160"/>
                  <a:chExt cx="272160" cy="27756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424224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42292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3962520" y="3683160"/>
                  <a:ext cx="272160" cy="277560"/>
                  <a:chOff x="3962520" y="3683160"/>
                  <a:chExt cx="272160" cy="2775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97548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9625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4762800" y="3683160"/>
                  <a:ext cx="272160" cy="277560"/>
                  <a:chOff x="4762800" y="3683160"/>
                  <a:chExt cx="272160" cy="2775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477576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476280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4496040" y="3683160"/>
                  <a:ext cx="272160" cy="277560"/>
                  <a:chOff x="4496040" y="3683160"/>
                  <a:chExt cx="272160" cy="27756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450900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449604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5295960" y="3683160"/>
                  <a:ext cx="272160" cy="277560"/>
                  <a:chOff x="5295960" y="3683160"/>
                  <a:chExt cx="272160" cy="27756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530892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52959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X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5029560" y="3683160"/>
                  <a:ext cx="272160" cy="277560"/>
                  <a:chOff x="5029560" y="3683160"/>
                  <a:chExt cx="272160" cy="27756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504216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50295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5562720" y="3683160"/>
                  <a:ext cx="272160" cy="277560"/>
                  <a:chOff x="5562720" y="3683160"/>
                  <a:chExt cx="272160" cy="27756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557568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55627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2" name=""/>
              <p:cNvGrpSpPr/>
              <p:nvPr/>
            </p:nvGrpSpPr>
            <p:grpSpPr>
              <a:xfrm>
                <a:off x="1819440" y="3683160"/>
                <a:ext cx="272160" cy="277560"/>
                <a:chOff x="1819440" y="3683160"/>
                <a:chExt cx="272160" cy="2775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83240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81944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048320" y="3683160"/>
                <a:ext cx="805320" cy="277560"/>
                <a:chOff x="1048320" y="3683160"/>
                <a:chExt cx="805320" cy="2775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1048320" y="3683160"/>
                  <a:ext cx="272160" cy="277560"/>
                  <a:chOff x="1048320" y="3683160"/>
                  <a:chExt cx="272160" cy="2775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06092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0483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315080" y="3683160"/>
                  <a:ext cx="272160" cy="277560"/>
                  <a:chOff x="1315080" y="3683160"/>
                  <a:chExt cx="272160" cy="2775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132768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13150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1581480" y="3683160"/>
                  <a:ext cx="272160" cy="277560"/>
                  <a:chOff x="1581480" y="3683160"/>
                  <a:chExt cx="272160" cy="277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159444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15814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35" name=""/>
          <p:cNvGrpSpPr/>
          <p:nvPr/>
        </p:nvGrpSpPr>
        <p:grpSpPr>
          <a:xfrm>
            <a:off x="6246720" y="2035080"/>
            <a:ext cx="2743200" cy="4172040"/>
            <a:chOff x="6246720" y="2035080"/>
            <a:chExt cx="2743200" cy="4172040"/>
          </a:xfrm>
        </p:grpSpPr>
        <p:sp>
          <p:nvSpPr>
            <p:cNvPr id="236" name=""/>
            <p:cNvSpPr/>
            <p:nvPr/>
          </p:nvSpPr>
          <p:spPr>
            <a:xfrm>
              <a:off x="6246720" y="2035080"/>
              <a:ext cx="2743200" cy="417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23400" y="2082600"/>
              <a:ext cx="2649600" cy="41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a b c d e f g h i 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a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a b c d e f g h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b c d e f g h i j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c d e f g h i j k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d e f g h i j k l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e f g h i j k l m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f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f g h i j k l m n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g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g h i j k l m n o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h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h i j k l m n o p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i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i j k l m n o p q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j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j k l m n o p q r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k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k l m n o p q r s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l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l m n o p q r s t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m n o p q r s t u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n o p q r s t u v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o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o p q r s t u v w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p q r s t u v w x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q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q r s t u v w x y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r s t u v w x y z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s t u v w x y z a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t u v w x y z a b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u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u v w x y z a b c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057680" y="3949560"/>
            <a:ext cx="272160" cy="278280"/>
            <a:chOff x="1057680" y="3949560"/>
            <a:chExt cx="272160" cy="278280"/>
          </a:xfrm>
        </p:grpSpPr>
        <p:sp>
          <p:nvSpPr>
            <p:cNvPr id="239" name=""/>
            <p:cNvSpPr/>
            <p:nvPr/>
          </p:nvSpPr>
          <p:spPr>
            <a:xfrm>
              <a:off x="1062000" y="39495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5768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-133560" y="388476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gik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7000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23240" y="2073240"/>
            <a:ext cx="190440" cy="4086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13320" y="5788080"/>
            <a:ext cx="2571840" cy="181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360440" y="4111200"/>
            <a:ext cx="6600960" cy="1724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314720" y="3949560"/>
            <a:ext cx="272160" cy="278280"/>
            <a:chOff x="1314720" y="3949560"/>
            <a:chExt cx="272160" cy="278280"/>
          </a:xfrm>
        </p:grpSpPr>
        <p:sp>
          <p:nvSpPr>
            <p:cNvPr id="247" name=""/>
            <p:cNvSpPr/>
            <p:nvPr/>
          </p:nvSpPr>
          <p:spPr>
            <a:xfrm>
              <a:off x="1319040" y="394956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1472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417680" y="3139920"/>
            <a:ext cx="0" cy="266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0352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8900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590840" y="3949560"/>
            <a:ext cx="272160" cy="278280"/>
            <a:chOff x="1590840" y="3949560"/>
            <a:chExt cx="272160" cy="278280"/>
          </a:xfrm>
        </p:grpSpPr>
        <p:sp>
          <p:nvSpPr>
            <p:cNvPr id="253" name=""/>
            <p:cNvSpPr/>
            <p:nvPr/>
          </p:nvSpPr>
          <p:spPr>
            <a:xfrm>
              <a:off x="1595160" y="394956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9084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7180200" y="2063880"/>
            <a:ext cx="190440" cy="4095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13320" y="5607000"/>
            <a:ext cx="2562480" cy="190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103120" y="4149720"/>
            <a:ext cx="5095800" cy="15336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848240" y="3949560"/>
            <a:ext cx="272160" cy="277920"/>
            <a:chOff x="1848240" y="3949560"/>
            <a:chExt cx="272160" cy="277920"/>
          </a:xfrm>
        </p:grpSpPr>
        <p:sp>
          <p:nvSpPr>
            <p:cNvPr id="259" name=""/>
            <p:cNvSpPr/>
            <p:nvPr/>
          </p:nvSpPr>
          <p:spPr>
            <a:xfrm>
              <a:off x="1852200" y="3949560"/>
              <a:ext cx="239040" cy="257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48240" y="3951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086560" y="3949560"/>
            <a:ext cx="3748680" cy="278280"/>
            <a:chOff x="2086560" y="3949560"/>
            <a:chExt cx="3748680" cy="278280"/>
          </a:xfrm>
        </p:grpSpPr>
        <p:grpSp>
          <p:nvGrpSpPr>
            <p:cNvPr id="262" name=""/>
            <p:cNvGrpSpPr/>
            <p:nvPr/>
          </p:nvGrpSpPr>
          <p:grpSpPr>
            <a:xfrm>
              <a:off x="5563080" y="3949560"/>
              <a:ext cx="272160" cy="278280"/>
              <a:chOff x="5563080" y="3949560"/>
              <a:chExt cx="272160" cy="278280"/>
            </a:xfrm>
          </p:grpSpPr>
          <p:sp>
            <p:nvSpPr>
              <p:cNvPr id="263" name=""/>
              <p:cNvSpPr/>
              <p:nvPr/>
            </p:nvSpPr>
            <p:spPr>
              <a:xfrm>
                <a:off x="55674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5630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895840" y="3949560"/>
              <a:ext cx="272160" cy="278280"/>
              <a:chOff x="2895840" y="3949560"/>
              <a:chExt cx="272160" cy="278280"/>
            </a:xfrm>
          </p:grpSpPr>
          <p:sp>
            <p:nvSpPr>
              <p:cNvPr id="266" name=""/>
              <p:cNvSpPr/>
              <p:nvPr/>
            </p:nvSpPr>
            <p:spPr>
              <a:xfrm>
                <a:off x="290016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9584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2619720" y="3949560"/>
              <a:ext cx="272160" cy="278280"/>
              <a:chOff x="2619720" y="3949560"/>
              <a:chExt cx="272160" cy="278280"/>
            </a:xfrm>
          </p:grpSpPr>
          <p:sp>
            <p:nvSpPr>
              <p:cNvPr id="269" name=""/>
              <p:cNvSpPr/>
              <p:nvPr/>
            </p:nvSpPr>
            <p:spPr>
              <a:xfrm>
                <a:off x="26240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6197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2362680" y="3949560"/>
              <a:ext cx="272160" cy="278280"/>
              <a:chOff x="2362680" y="3949560"/>
              <a:chExt cx="272160" cy="278280"/>
            </a:xfrm>
          </p:grpSpPr>
          <p:sp>
            <p:nvSpPr>
              <p:cNvPr id="272" name=""/>
              <p:cNvSpPr/>
              <p:nvPr/>
            </p:nvSpPr>
            <p:spPr>
              <a:xfrm>
                <a:off x="23670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626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086560" y="3949560"/>
              <a:ext cx="272160" cy="278280"/>
              <a:chOff x="2086560" y="3949560"/>
              <a:chExt cx="272160" cy="278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090880" y="3949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865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029560" y="3949560"/>
              <a:ext cx="272160" cy="278280"/>
              <a:chOff x="5029560" y="3949560"/>
              <a:chExt cx="272160" cy="278280"/>
            </a:xfrm>
          </p:grpSpPr>
          <p:sp>
            <p:nvSpPr>
              <p:cNvPr id="278" name=""/>
              <p:cNvSpPr/>
              <p:nvPr/>
            </p:nvSpPr>
            <p:spPr>
              <a:xfrm>
                <a:off x="503388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295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753440" y="3949560"/>
              <a:ext cx="272160" cy="278280"/>
              <a:chOff x="4753440" y="3949560"/>
              <a:chExt cx="272160" cy="278280"/>
            </a:xfrm>
          </p:grpSpPr>
          <p:sp>
            <p:nvSpPr>
              <p:cNvPr id="281" name=""/>
              <p:cNvSpPr/>
              <p:nvPr/>
            </p:nvSpPr>
            <p:spPr>
              <a:xfrm>
                <a:off x="475776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5344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4486680" y="3949560"/>
              <a:ext cx="272160" cy="278280"/>
              <a:chOff x="4486680" y="3949560"/>
              <a:chExt cx="272160" cy="278280"/>
            </a:xfrm>
          </p:grpSpPr>
          <p:sp>
            <p:nvSpPr>
              <p:cNvPr id="284" name=""/>
              <p:cNvSpPr/>
              <p:nvPr/>
            </p:nvSpPr>
            <p:spPr>
              <a:xfrm>
                <a:off x="44910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866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219920" y="3949560"/>
              <a:ext cx="272160" cy="278280"/>
              <a:chOff x="4219920" y="3949560"/>
              <a:chExt cx="272160" cy="278280"/>
            </a:xfrm>
          </p:grpSpPr>
          <p:sp>
            <p:nvSpPr>
              <p:cNvPr id="287" name=""/>
              <p:cNvSpPr/>
              <p:nvPr/>
            </p:nvSpPr>
            <p:spPr>
              <a:xfrm>
                <a:off x="42242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199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962880" y="3949560"/>
              <a:ext cx="272160" cy="278280"/>
              <a:chOff x="3962880" y="3949560"/>
              <a:chExt cx="272160" cy="278280"/>
            </a:xfrm>
          </p:grpSpPr>
          <p:sp>
            <p:nvSpPr>
              <p:cNvPr id="290" name=""/>
              <p:cNvSpPr/>
              <p:nvPr/>
            </p:nvSpPr>
            <p:spPr>
              <a:xfrm>
                <a:off x="39672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628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86760" y="3949560"/>
              <a:ext cx="272160" cy="278280"/>
              <a:chOff x="3686760" y="3949560"/>
              <a:chExt cx="272160" cy="278280"/>
            </a:xfrm>
          </p:grpSpPr>
          <p:sp>
            <p:nvSpPr>
              <p:cNvPr id="293" name=""/>
              <p:cNvSpPr/>
              <p:nvPr/>
            </p:nvSpPr>
            <p:spPr>
              <a:xfrm>
                <a:off x="3691080" y="3949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6867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429360" y="3949560"/>
              <a:ext cx="272160" cy="278280"/>
              <a:chOff x="3429360" y="3949560"/>
              <a:chExt cx="272160" cy="278280"/>
            </a:xfrm>
          </p:grpSpPr>
          <p:sp>
            <p:nvSpPr>
              <p:cNvPr id="296" name=""/>
              <p:cNvSpPr/>
              <p:nvPr/>
            </p:nvSpPr>
            <p:spPr>
              <a:xfrm>
                <a:off x="343368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93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162600" y="3949560"/>
              <a:ext cx="272160" cy="278280"/>
              <a:chOff x="3162600" y="3949560"/>
              <a:chExt cx="272160" cy="278280"/>
            </a:xfrm>
          </p:grpSpPr>
          <p:sp>
            <p:nvSpPr>
              <p:cNvPr id="299" name=""/>
              <p:cNvSpPr/>
              <p:nvPr/>
            </p:nvSpPr>
            <p:spPr>
              <a:xfrm>
                <a:off x="316692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260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296320" y="3949560"/>
              <a:ext cx="272160" cy="278280"/>
              <a:chOff x="5296320" y="3949560"/>
              <a:chExt cx="272160" cy="278280"/>
            </a:xfrm>
          </p:grpSpPr>
          <p:sp>
            <p:nvSpPr>
              <p:cNvPr id="302" name=""/>
              <p:cNvSpPr/>
              <p:nvPr/>
            </p:nvSpPr>
            <p:spPr>
              <a:xfrm>
                <a:off x="53006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963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6E853-0DFA-455C-A705-9AB77D0F9C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Vigenere from the Ciphers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540160" y="3411360"/>
            <a:ext cx="4387680" cy="207972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4626000" y="4024440"/>
            <a:ext cx="1236600" cy="676080"/>
            <a:chOff x="4626000" y="4024440"/>
            <a:chExt cx="1236600" cy="676080"/>
          </a:xfrm>
        </p:grpSpPr>
        <p:sp>
          <p:nvSpPr>
            <p:cNvPr id="308" name=""/>
            <p:cNvSpPr/>
            <p:nvPr/>
          </p:nvSpPr>
          <p:spPr>
            <a:xfrm>
              <a:off x="4626000" y="4024440"/>
              <a:ext cx="1236600" cy="676080"/>
            </a:xfrm>
            <a:prstGeom prst="wedgeRoundRectCallout">
              <a:avLst>
                <a:gd name="adj1" fmla="val -43708"/>
                <a:gd name="adj2" fmla="val 65023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41200" y="403380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4CC71-62BF-42D0-9B6C-39577F60D8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1T02:20:57Z</dcterms:modified>
  <cp:revision>57</cp:revision>
  <dc:subject/>
  <dc:title>CAP Cryptographic Analysis Program</dc:title>
</cp:coreProperties>
</file>